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C29C-BB20-44EC-A487-40C58F154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fosterweb.com/thinkquest/begin/earthsunmo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ailymail.co.uk/sciencetech/article-1367846/Super-moon-Clear-skies-set-reveal-tonights-lunar-perigee-gl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pi.usra.edu/education/skytellers/moon_phases/about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onconnection.com/moon_phases.p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ews.nationalgeographic.com/news/2012/11/pictures/121114-total-solar-eclipse-pictures-australia-space-sci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chilton.k12.wi.us/sromekg/astronom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bc.ca/news/technology/rare-solar-eclipse-takes-place-tonight-over-antarctica-1.26242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ogto.com/city/2010/12/photos_of_the_2010_lunar_eclipse_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kashif-ali.com/2010/03/northern-southern-hemispher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vulgence.net/axis%20shift%2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environmental/earth/geophysics/earth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rikpanchang.com/seasons/season-summer-solstice-timing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imple.wikipedia.org/wiki/Winter_sol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Equin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faculty.wcas.northwestern.edu/~infocom/Ideas/solsti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98A-5E76-411C-9128-9D3423A7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797-9990-4077-949F-FF7273CC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C9A-CDE3-48DF-824C-B6F7C2CB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9F3-E335-4691-AC85-3E1EB9C4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265-B344-4B63-92B5-463994D6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A88-56AD-45C4-9F39-15AC1EBC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E15-6236-4A2D-B761-CAE12BAF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A3D-0119-4BCE-A798-64611FC5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3A8-732F-4E0A-BF60-73626D4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BB3-649F-43A2-A52B-BCD69AE2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160-C76C-4998-9E1B-51DC9989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455-4C59-42D9-953F-24E4316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504A-5007-4C35-A5C5-3DEC6B08E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s of the Earth &amp; Moon’s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n’s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about 27 days for the Moon to orbit around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about 27 days for the Moon to rotate around its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803680"/>
            <a:ext cx="4114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ar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equence of phases made by the Moon during one orbit around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2600280"/>
            <a:ext cx="426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094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eclip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440" y="609480"/>
            <a:ext cx="609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en the Moon blocks from or all of the Sun’s light form the Earth.  They are very r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2387520"/>
            <a:ext cx="43434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ar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en the Earth blocks some or all of the Sun’s light from the Moon.  They are much more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79960" y="1676520"/>
            <a:ext cx="3098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isph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 is divided into 2 hemisph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42000" y="1676520"/>
            <a:ext cx="357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’s 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axis is tilted 23.5º from ver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2357280"/>
            <a:ext cx="41148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923760"/>
            <a:ext cx="7772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er Sol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ne 21, the northern hemisphere is tilted the mo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2602080"/>
            <a:ext cx="426744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ter Sol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cember 21, the northern hemisphere is tilted the mo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way 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790720"/>
            <a:ext cx="38098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n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n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ays when the hours of daylight equal the hours of dark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19720" y="2509920"/>
            <a:ext cx="4419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eeps the Earth in orbit around the S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rce of attraction between 2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’s gravitational force keeps the Moon in orbit arou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6:33:56Z</dcterms:created>
  <dc:creator>rubina khan</dc:creator>
  <dc:description/>
  <dc:language>en-US</dc:language>
  <cp:lastModifiedBy>rubina khan</cp:lastModifiedBy>
  <dcterms:modified xsi:type="dcterms:W3CDTF">2014-10-23T07:10:41Z</dcterms:modified>
  <cp:revision>37</cp:revision>
  <dc:subject/>
  <dc:title>Effects of the Earth &amp; Moon’s Orbits</dc:title>
</cp:coreProperties>
</file>